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94D8-8FFE-4AE9-BAE3-E75EBFA6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6AA-95F3-42C8-AF4A-B04A0BCC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9F9-6743-4A59-91E4-D5C33119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ftb.org/15/anim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5126-7136-4A38-9A0F-019AB4BF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250/250F12_7pri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A7C1-C7D3-4DE9-8761-F8BA3DDD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C14-C777-4E13-9366-FCCF53B9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D14-8DAF-47DC-9922-B98B678C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view/16375-Animation-17-A-gene-is-made-of-DNA-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BD0-1677-45EE-9F10-19390F33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7547-E8D9-4BFF-BA9E-070AE6E6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83D4-F057-4BFB-8AB7-9ED90A4D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A32-E8AA-4548-88DD-8424F628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CB2F-D1E9-4AC2-9F32-E7A5997C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7B31-545A-4ED6-A9C5-4BD3DBF5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Phoebus_Le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484-65C7-486B-88A6-CE8BB5E8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ost.queensu.ca/~forsdyke/bioinfo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D4AA-2FDE-47FB-9203-23F47BD1C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en.wikipedia.org/wiki/Rosalind_Frankli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9AE6-FD4D-4A70-B5E0-FCD7396C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iscoveryandinnovation.com/BIOL202/notes/lecture9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EF9-BDF9-4F0E-B7DC-4FA89B01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log.bookstellyouwhy.com/watson-and-crick-controversy-immodesty-and-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ftb.org/dnaftb/19/concept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E81-A9C1-482E-A624-3922700B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0D9-A9BF-4B23-B3D2-B8114487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0EEE-5AA7-461C-ABEB-89867E94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728-1FF3-4044-A236-E7D960DA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F438-AE7E-4387-96E7-DC3A4C18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82C6-FAC4-4769-ABC7-2F0E1CB6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Terms: genes &amp; alleles, diploid &amp; haploid, homologous chromosomes, eukaryotic DNA vs. prokaryotic DNA, plasmids,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, gene image: http://www.mayoclinic.org/tests-procedures/genetic-testing/multimedia/genetic-disorders/sls-20076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NA image: https://www.sciencelearn.org.nz/resources/1900-bacterial-dna-the-role-of-plasm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8F1-AAE5-4BD7-B8AC-A9CBA160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A77-E0B7-4E93-9C17-D1D9F441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A09-1865-48CC-9A92-178686B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1BA-03FF-4C6B-936D-9FE79571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2E8-69EC-4412-8AAA-F20B20B9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F09-A344-491E-B400-41C311A0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034-1CE8-4A5D-8CD3-9C1BBED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3A1-D275-4A6D-88C2-C7D17158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6A4-14B9-4639-85EB-11B60ED6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F16-DCE2-401E-AD7F-4465ADE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E59-A321-497C-88E8-CFC0BE1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347-DD5D-40AA-B432-B21321B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951-1FA1-4BC3-B078-872B0F1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4F0-8E3C-4F31-8F82-A4A738D0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 &amp; 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identity of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29" descr="friedrich_miescher"/>
          <p:cNvPicPr/>
          <p:nvPr/>
        </p:nvPicPr>
        <p:blipFill>
          <a:blip r:embed="rId1"/>
          <a:srcRect l="0" t="13819" r="0" b="13819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pus (WBC’s) from bandages &amp; isolated an acidic substance with a large amount of phosphorus, which he called “nucle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40px-Griffithm"/>
          <p:cNvPicPr/>
          <p:nvPr/>
        </p:nvPicPr>
        <p:blipFill>
          <a:blip r:embed="rId1"/>
          <a:srcRect l="0" t="14166" r="0" b="14166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d 2 strains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ptococcus pneumonia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6" descr="pneumococcus.jpg"/>
          <p:cNvPicPr/>
          <p:nvPr/>
        </p:nvPicPr>
        <p:blipFill>
          <a:blip r:embed="rId1"/>
          <a:srcRect l="-3378" t="0" r="-3378" b="0"/>
          <a:stretch/>
        </p:blipFill>
        <p:spPr>
          <a:xfrm>
            <a:off x="755640" y="692280"/>
            <a:ext cx="77025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7" descr="75780381407418910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ffith did not identify the “transforming principle” that changed the R-strain into the S-s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, further experiments were carried out by Oswald Avery, Colin McLeod, and Maclyn McCarty to identify if it was DNA, protein, or 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9" descr="FG11_02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, to determine if transforming principle was DNA or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14/animations.html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phagestructure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bacteriophage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ERSHEY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already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NA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that DNA molecule contained 3 major components (deoxyribose sugars, phosphate groups, nitrogenous 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Levene.jpg"/>
          <p:cNvPicPr/>
          <p:nvPr/>
        </p:nvPicPr>
        <p:blipFill>
          <a:blip r:embed="rId1"/>
          <a:srcRect l="-17764" t="0" r="-177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5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T, C 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2" descr="Chargaf2.jpg"/>
          <p:cNvPicPr/>
          <p:nvPr/>
        </p:nvPicPr>
        <p:blipFill>
          <a:blip r:embed="rId1"/>
          <a:srcRect l="-12364" t="0" r="-123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lind Franklin &amp; Maurice Wil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 &amp; orientation of sugar-phosphat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2" descr="Rosalind_Franklin.jpg"/>
          <p:cNvPicPr/>
          <p:nvPr/>
        </p:nvPicPr>
        <p:blipFill>
          <a:blip r:embed="rId1"/>
          <a:srcRect l="0" t="7878" r="0" b="78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lind Franklin &amp; Maurice Wil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diffract.jpg"/>
          <p:cNvPicPr/>
          <p:nvPr/>
        </p:nvPicPr>
        <p:blipFill>
          <a:blip r:embed="rId1"/>
          <a:srcRect l="-20830" t="0" r="-20830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0160" y="620640"/>
            <a:ext cx="84582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watson_crick.jpg"/>
          <p:cNvPicPr/>
          <p:nvPr/>
        </p:nvPicPr>
        <p:blipFill>
          <a:blip r:embed="rId1"/>
          <a:srcRect l="0" t="-3915" r="0" b="-391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view of 1.5 p.45-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057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rna_and_dna-1cayhm3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olynuc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6" descr="bacterial_dna_oversize20161104-16695-1aveeiq.jpg"/>
          <p:cNvPicPr/>
          <p:nvPr/>
        </p:nvPicPr>
        <p:blipFill>
          <a:blip r:embed="rId1"/>
          <a:srcRect l="17360" t="0" r="17360" b="0"/>
          <a:stretch/>
        </p:blipFill>
        <p:spPr>
          <a:xfrm>
            <a:off x="4572000" y="2409840"/>
            <a:ext cx="4103640" cy="4187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5" descr="ds00549-your-genes-chromosomes-and-dna.ashx.jpeg"/>
          <p:cNvPicPr/>
          <p:nvPr/>
        </p:nvPicPr>
        <p:blipFill>
          <a:blip r:embed="rId2"/>
          <a:srcRect l="13157" t="0" r="13157" b="0"/>
          <a:stretch/>
        </p:blipFill>
        <p:spPr>
          <a:xfrm>
            <a:off x="395280" y="177336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late 180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3304639"/>
          <p:cNvPicPr/>
          <p:nvPr/>
        </p:nvPicPr>
        <p:blipFill>
          <a:blip r:embed="rId1"/>
          <a:srcRect l="0" t="6709" r="0" b="6709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 plant experiments, inherited “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’s work led scientists on the path to discovering the hereditary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7-03-10T11:34:09Z</dcterms:modified>
  <cp:revision>169</cp:revision>
  <dc:subject/>
  <dc:title>Molecular Genetics</dc:title>
</cp:coreProperties>
</file>